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2.png" ContentType="image/png"/>
  <Override PartName="/ppt/media/image25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13.png" ContentType="image/png"/>
  <Override PartName="/ppt/media/image62.png" ContentType="image/png"/>
  <Override PartName="/ppt/media/projctor.wav" ContentType="audio/x-wav"/>
  <Override PartName="/ppt/media/image59.png" ContentType="image/png"/>
  <Override PartName="/ppt/media/image22.png" ContentType="image/png"/>
  <Override PartName="/ppt/media/image26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17.jpeg" ContentType="image/jpeg"/>
  <Override PartName="/ppt/media/chimes.wav" ContentType="audio/x-wav"/>
  <Override PartName="/ppt/media/image21.jpeg" ContentType="image/jpeg"/>
  <Override PartName="/ppt/media/image58.png" ContentType="image/png"/>
  <Override PartName="/ppt/media/image61.png" ContentType="image/png"/>
  <Override PartName="/ppt/media/image24.png" ContentType="image/png"/>
  <Override PartName="/ppt/media/image11.png" ContentType="image/png"/>
  <Override PartName="/ppt/media/image29.png" ContentType="image/png"/>
  <Override PartName="/ppt/media/image63.jpeg" ContentType="image/jpeg"/>
  <Override PartName="/ppt/media/image15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37.jpeg" ContentType="image/jpeg"/>
  <Override PartName="/ppt/media/image20.png" ContentType="image/png"/>
  <Override PartName="/ppt/media/image57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9.jpeg" ContentType="image/jpeg"/>
  <Override PartName="/ppt/media/image31.jpeg" ContentType="image/jpeg"/>
  <Override PartName="/ppt/media/image33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343-7286-4A6B-B5DE-E4987E1D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839-8F66-4B2F-BA76-FFCDDEE3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DB2-31AC-4F1D-A2FB-AE38AE9C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E5B-C1D6-484A-91AA-5D9D18AF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F39-E3AD-4B86-99EB-641E07D3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124-EAF9-4EDC-A157-6ED725C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02B-D1B4-444A-AB9C-96FC28A7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54A-03F7-4E2F-B4B2-0587B3D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2D7-FFE9-48A9-A298-515DDB3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F59-1FE1-46CC-8F76-003BE7A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DB6-5835-439A-B738-D6032BF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1C9-9EEA-4DBA-BD6A-62599EE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DEA-2181-4973-8145-D342DFF007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jpe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jpeg"/><Relationship Id="rId21" Type="http://schemas.openxmlformats.org/officeDocument/2006/relationships/image" Target="../media/image36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26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14.png"/><Relationship Id="rId11" Type="http://schemas.openxmlformats.org/officeDocument/2006/relationships/image" Target="../media/image28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36.pn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33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jpe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3.jpe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27.jpe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19.jpeg"/><Relationship Id="rId21" Type="http://schemas.openxmlformats.org/officeDocument/2006/relationships/image" Target="../media/image20.png"/><Relationship Id="rId22" Type="http://schemas.openxmlformats.org/officeDocument/2006/relationships/image" Target="../media/image56.png"/><Relationship Id="rId23" Type="http://schemas.openxmlformats.org/officeDocument/2006/relationships/image" Target="../media/image57.png"/><Relationship Id="rId24" Type="http://schemas.openxmlformats.org/officeDocument/2006/relationships/image" Target="../media/image10.png"/><Relationship Id="rId25" Type="http://schemas.openxmlformats.org/officeDocument/2006/relationships/image" Target="../media/image58.png"/><Relationship Id="rId26" Type="http://schemas.openxmlformats.org/officeDocument/2006/relationships/image" Target="../media/image59.png"/><Relationship Id="rId27" Type="http://schemas.openxmlformats.org/officeDocument/2006/relationships/image" Target="../media/image11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10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jpeg"/><Relationship Id="rId14" Type="http://schemas.openxmlformats.org/officeDocument/2006/relationships/image" Target="../media/image32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60.jpe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70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沪教牛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版五年级英语下册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3213000"/>
            <a:ext cx="4535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文鼎水管体"/>
              </a:rPr>
              <a:t>Unit2 Favourite toys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文鼎水管体"/>
              <a:ea typeface="文鼎水管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90720" y="0"/>
            <a:ext cx="315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Do a survey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295280" y="1447920"/>
          <a:ext cx="7162920" cy="2695320"/>
        </p:xfrm>
        <a:graphic>
          <a:graphicData uri="http://schemas.openxmlformats.org/drawingml/2006/table">
            <a:tbl>
              <a:tblPr/>
              <a:tblGrid>
                <a:gridCol w="1676520"/>
                <a:gridCol w="990720"/>
                <a:gridCol w="1104840"/>
                <a:gridCol w="1485720"/>
                <a:gridCol w="978120"/>
                <a:gridCol w="927000"/>
              </a:tblGrid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nosa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a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4495680" y="380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228600"/>
            <a:ext cx="3352680" cy="12373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ave you got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colour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ow is it?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90720" y="4267080"/>
            <a:ext cx="3343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Write a report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800600"/>
            <a:ext cx="662940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.g. ______ is the favourite toy in my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boys and ___ girls have a/an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 has a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 is _______.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58920" y="1916280"/>
            <a:ext cx="5688000" cy="32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Goodbye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500" autoRev="1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3581640" cy="289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3880" y="304920"/>
            <a:ext cx="1447920" cy="906480"/>
            <a:chOff x="1523880" y="304920"/>
            <a:chExt cx="1447920" cy="9064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523880" y="380880"/>
              <a:ext cx="7621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2209680" y="304920"/>
              <a:ext cx="7621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2133720" y="762120"/>
              <a:ext cx="76176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803680" y="1752480"/>
            <a:ext cx="54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eroplane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038480" y="0"/>
            <a:ext cx="1752480" cy="1471680"/>
            <a:chOff x="4038480" y="0"/>
            <a:chExt cx="1752480" cy="1471680"/>
          </a:xfrm>
        </p:grpSpPr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4114800" y="457200"/>
              <a:ext cx="167616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4038480" y="0"/>
              <a:ext cx="160020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419112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77120" y="0"/>
            <a:ext cx="2008080" cy="1625760"/>
            <a:chOff x="6477120" y="0"/>
            <a:chExt cx="2008080" cy="1625760"/>
          </a:xfrm>
        </p:grpSpPr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7772400" y="380880"/>
              <a:ext cx="71280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7162920" y="0"/>
              <a:ext cx="7426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9"/>
            <a:stretch/>
          </p:blipFill>
          <p:spPr>
            <a:xfrm>
              <a:off x="6477120" y="304920"/>
              <a:ext cx="80460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70572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ot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19320" y="2362320"/>
            <a:ext cx="1828800" cy="610560"/>
            <a:chOff x="1219320" y="2362320"/>
            <a:chExt cx="1828800" cy="610560"/>
          </a:xfrm>
        </p:grpSpPr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>
              <a:off x="1219320" y="2362320"/>
              <a:ext cx="1219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1"/>
            <a:stretch/>
          </p:blipFill>
          <p:spPr>
            <a:xfrm>
              <a:off x="1828800" y="2401920"/>
              <a:ext cx="121932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1932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cycle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9880" y="2209680"/>
            <a:ext cx="1981440" cy="938160"/>
            <a:chOff x="3809880" y="2209680"/>
            <a:chExt cx="1981440" cy="938160"/>
          </a:xfrm>
        </p:grpSpPr>
        <p:pic>
          <p:nvPicPr>
            <p:cNvPr id="66" name="" descr=""/>
            <p:cNvPicPr/>
            <p:nvPr/>
          </p:nvPicPr>
          <p:blipFill>
            <a:blip r:embed="rId12"/>
            <a:stretch/>
          </p:blipFill>
          <p:spPr>
            <a:xfrm>
              <a:off x="4724280" y="2209680"/>
              <a:ext cx="1067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3"/>
            <a:stretch/>
          </p:blipFill>
          <p:spPr>
            <a:xfrm>
              <a:off x="3809880" y="2209680"/>
              <a:ext cx="10288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4"/>
            <a:stretch/>
          </p:blipFill>
          <p:spPr>
            <a:xfrm>
              <a:off x="4267080" y="2438280"/>
              <a:ext cx="1105200" cy="7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365760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boy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324480" y="1981080"/>
            <a:ext cx="2148120" cy="1371600"/>
            <a:chOff x="6324480" y="1981080"/>
            <a:chExt cx="2148120" cy="1371600"/>
          </a:xfrm>
        </p:grpSpPr>
        <p:pic>
          <p:nvPicPr>
            <p:cNvPr id="71" name="" descr=""/>
            <p:cNvPicPr/>
            <p:nvPr/>
          </p:nvPicPr>
          <p:blipFill>
            <a:blip r:embed="rId15"/>
            <a:stretch/>
          </p:blipFill>
          <p:spPr>
            <a:xfrm>
              <a:off x="6324480" y="2133360"/>
              <a:ext cx="10051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6"/>
            <a:stretch/>
          </p:blipFill>
          <p:spPr>
            <a:xfrm>
              <a:off x="6858000" y="2057040"/>
              <a:ext cx="10047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7"/>
            <a:stretch/>
          </p:blipFill>
          <p:spPr>
            <a:xfrm>
              <a:off x="7010280" y="2361960"/>
              <a:ext cx="10051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8"/>
            <a:stretch/>
          </p:blipFill>
          <p:spPr>
            <a:xfrm>
              <a:off x="7467480" y="1981080"/>
              <a:ext cx="10051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6858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3276720"/>
            <a:ext cx="2895480" cy="1731960"/>
            <a:chOff x="762120" y="3276720"/>
            <a:chExt cx="2895480" cy="1731960"/>
          </a:xfrm>
        </p:grpSpPr>
        <p:pic>
          <p:nvPicPr>
            <p:cNvPr id="77" name="" descr=""/>
            <p:cNvPicPr/>
            <p:nvPr/>
          </p:nvPicPr>
          <p:blipFill>
            <a:blip r:embed="rId19"/>
            <a:stretch/>
          </p:blipFill>
          <p:spPr>
            <a:xfrm>
              <a:off x="1905120" y="3276720"/>
              <a:ext cx="175248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0"/>
            <a:stretch/>
          </p:blipFill>
          <p:spPr>
            <a:xfrm>
              <a:off x="1143000" y="3581280"/>
              <a:ext cx="175284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1"/>
            <a:stretch/>
          </p:blipFill>
          <p:spPr>
            <a:xfrm>
              <a:off x="762120" y="3352680"/>
              <a:ext cx="1752480" cy="142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914400" y="44197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ateboard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62520" y="3581280"/>
            <a:ext cx="2361600" cy="1009800"/>
            <a:chOff x="3962520" y="3581280"/>
            <a:chExt cx="2361600" cy="1009800"/>
          </a:xfrm>
        </p:grpSpPr>
        <p:pic>
          <p:nvPicPr>
            <p:cNvPr id="82" name="" descr=""/>
            <p:cNvPicPr/>
            <p:nvPr/>
          </p:nvPicPr>
          <p:blipFill>
            <a:blip r:embed="rId22"/>
            <a:stretch/>
          </p:blipFill>
          <p:spPr>
            <a:xfrm>
              <a:off x="5181480" y="3733920"/>
              <a:ext cx="1142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3"/>
            <a:stretch/>
          </p:blipFill>
          <p:spPr>
            <a:xfrm>
              <a:off x="3962520" y="3581280"/>
              <a:ext cx="106668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4"/>
            <a:stretch/>
          </p:blipFill>
          <p:spPr>
            <a:xfrm>
              <a:off x="4419360" y="3733920"/>
              <a:ext cx="114264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3809880" y="4419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3581280"/>
            <a:ext cx="2286000" cy="1295640"/>
            <a:chOff x="6477120" y="3581280"/>
            <a:chExt cx="2286000" cy="1295640"/>
          </a:xfrm>
        </p:grpSpPr>
        <p:pic>
          <p:nvPicPr>
            <p:cNvPr id="87" name="" descr=""/>
            <p:cNvPicPr/>
            <p:nvPr/>
          </p:nvPicPr>
          <p:blipFill>
            <a:blip r:embed="rId25"/>
            <a:stretch/>
          </p:blipFill>
          <p:spPr>
            <a:xfrm>
              <a:off x="7543800" y="3581280"/>
              <a:ext cx="12193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6477120" y="3657600"/>
              <a:ext cx="12193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7"/>
            <a:stretch/>
          </p:blipFill>
          <p:spPr>
            <a:xfrm>
              <a:off x="7086600" y="3809880"/>
              <a:ext cx="1219320" cy="10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85800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4952880"/>
            <a:ext cx="1981080" cy="982800"/>
            <a:chOff x="1295280" y="4952880"/>
            <a:chExt cx="1981080" cy="982800"/>
          </a:xfrm>
        </p:grpSpPr>
        <p:pic>
          <p:nvPicPr>
            <p:cNvPr id="92" name="" descr=""/>
            <p:cNvPicPr/>
            <p:nvPr/>
          </p:nvPicPr>
          <p:blipFill>
            <a:blip r:embed="rId28"/>
            <a:stretch/>
          </p:blipFill>
          <p:spPr>
            <a:xfrm>
              <a:off x="1295280" y="5105520"/>
              <a:ext cx="990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9"/>
            <a:stretch/>
          </p:blipFill>
          <p:spPr>
            <a:xfrm>
              <a:off x="1828440" y="4952880"/>
              <a:ext cx="12193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0"/>
            <a:stretch/>
          </p:blipFill>
          <p:spPr>
            <a:xfrm>
              <a:off x="2361960" y="5029200"/>
              <a:ext cx="91440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219320" y="5943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osaur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62520" y="4952880"/>
            <a:ext cx="1743120" cy="1016280"/>
            <a:chOff x="3962520" y="4952880"/>
            <a:chExt cx="1743120" cy="1016280"/>
          </a:xfrm>
        </p:grpSpPr>
        <p:pic>
          <p:nvPicPr>
            <p:cNvPr id="97" name="" descr=""/>
            <p:cNvPicPr/>
            <p:nvPr/>
          </p:nvPicPr>
          <p:blipFill>
            <a:blip r:embed="rId31"/>
            <a:stretch/>
          </p:blipFill>
          <p:spPr>
            <a:xfrm>
              <a:off x="3962520" y="4952880"/>
              <a:ext cx="98100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2"/>
            <a:stretch/>
          </p:blipFill>
          <p:spPr>
            <a:xfrm>
              <a:off x="4724280" y="4952880"/>
              <a:ext cx="981360" cy="10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3962520" y="5943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ppet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934320" y="5181480"/>
            <a:ext cx="1447200" cy="1067040"/>
            <a:chOff x="6934320" y="5181480"/>
            <a:chExt cx="1447200" cy="1067040"/>
          </a:xfrm>
        </p:grpSpPr>
        <p:pic>
          <p:nvPicPr>
            <p:cNvPr id="101" name="" descr=""/>
            <p:cNvPicPr/>
            <p:nvPr/>
          </p:nvPicPr>
          <p:blipFill>
            <a:blip r:embed="rId33"/>
            <a:stretch/>
          </p:blipFill>
          <p:spPr>
            <a:xfrm>
              <a:off x="6934320" y="5181480"/>
              <a:ext cx="6555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4"/>
            <a:stretch/>
          </p:blipFill>
          <p:spPr>
            <a:xfrm>
              <a:off x="7772400" y="5181480"/>
              <a:ext cx="6091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6705720" y="6216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dier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81080" y="228600"/>
            <a:ext cx="6096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幼圆"/>
              </a:rPr>
              <a:t>My favourite toy</a:t>
            </a:r>
            <a:endParaRPr b="1" i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590920" cy="32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1143000"/>
            <a:ext cx="6172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my favourite t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have a/a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ha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ca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like it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! I’m playing with i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66680" y="304920"/>
            <a:ext cx="2590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Talk like this: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43000" y="1447920"/>
            <a:ext cx="1910880" cy="1212840"/>
            <a:chOff x="1143000" y="1447920"/>
            <a:chExt cx="1910880" cy="12128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523880" y="1829160"/>
              <a:ext cx="153000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1143000" y="1447920"/>
              <a:ext cx="11426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132000" y="1628640"/>
            <a:ext cx="1778040" cy="1522440"/>
            <a:chOff x="3132000" y="1628640"/>
            <a:chExt cx="1778040" cy="152244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3284280" y="1628640"/>
              <a:ext cx="15238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3132000" y="1857240"/>
              <a:ext cx="177804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5029200" y="1676520"/>
            <a:ext cx="2209680" cy="1371600"/>
            <a:chOff x="5029200" y="1676520"/>
            <a:chExt cx="2209680" cy="1371600"/>
          </a:xfrm>
        </p:grpSpPr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5029200" y="1905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5715000" y="1676520"/>
              <a:ext cx="1523880" cy="12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7277040" y="1295280"/>
            <a:ext cx="1866960" cy="1498680"/>
            <a:chOff x="7277040" y="1295280"/>
            <a:chExt cx="1866960" cy="1498680"/>
          </a:xfrm>
        </p:grpSpPr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7277040" y="1295280"/>
              <a:ext cx="165096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7810560" y="1904760"/>
              <a:ext cx="1333440" cy="88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914400" y="3048120"/>
            <a:ext cx="2189160" cy="1752120"/>
            <a:chOff x="914400" y="3048120"/>
            <a:chExt cx="2189160" cy="1752120"/>
          </a:xfrm>
        </p:grpSpPr>
        <p:pic>
          <p:nvPicPr>
            <p:cNvPr id="121" name="" descr=""/>
            <p:cNvPicPr/>
            <p:nvPr/>
          </p:nvPicPr>
          <p:blipFill>
            <a:blip r:embed="rId10"/>
            <a:stretch/>
          </p:blipFill>
          <p:spPr>
            <a:xfrm>
              <a:off x="914400" y="3352680"/>
              <a:ext cx="14875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1"/>
            <a:stretch/>
          </p:blipFill>
          <p:spPr>
            <a:xfrm>
              <a:off x="1981080" y="3048120"/>
              <a:ext cx="1122480" cy="14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3124080" y="3429000"/>
            <a:ext cx="2057400" cy="1422360"/>
            <a:chOff x="3124080" y="3429000"/>
            <a:chExt cx="2057400" cy="1422360"/>
          </a:xfrm>
        </p:grpSpPr>
        <p:pic>
          <p:nvPicPr>
            <p:cNvPr id="124" name="" descr=""/>
            <p:cNvPicPr/>
            <p:nvPr/>
          </p:nvPicPr>
          <p:blipFill>
            <a:blip r:embed="rId12"/>
            <a:stretch/>
          </p:blipFill>
          <p:spPr>
            <a:xfrm>
              <a:off x="3809880" y="3429000"/>
              <a:ext cx="13716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3"/>
            <a:stretch/>
          </p:blipFill>
          <p:spPr>
            <a:xfrm>
              <a:off x="3124080" y="3581280"/>
              <a:ext cx="93996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5257800" y="3276720"/>
            <a:ext cx="1905120" cy="1675800"/>
            <a:chOff x="5257800" y="3276720"/>
            <a:chExt cx="1905120" cy="167580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5257800" y="3276720"/>
              <a:ext cx="1676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5"/>
            <a:stretch/>
          </p:blipFill>
          <p:spPr>
            <a:xfrm>
              <a:off x="5943600" y="373356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7672320" y="3200400"/>
            <a:ext cx="1471680" cy="1486080"/>
            <a:chOff x="7672320" y="3200400"/>
            <a:chExt cx="1471680" cy="1486080"/>
          </a:xfrm>
        </p:grpSpPr>
        <p:pic>
          <p:nvPicPr>
            <p:cNvPr id="130" name="" descr=""/>
            <p:cNvPicPr/>
            <p:nvPr/>
          </p:nvPicPr>
          <p:blipFill>
            <a:blip r:embed="rId16"/>
            <a:stretch/>
          </p:blipFill>
          <p:spPr>
            <a:xfrm>
              <a:off x="7748640" y="3200400"/>
              <a:ext cx="139536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7"/>
            <a:stretch/>
          </p:blipFill>
          <p:spPr>
            <a:xfrm>
              <a:off x="7672320" y="3505320"/>
              <a:ext cx="1282680" cy="110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1219320" y="5029200"/>
            <a:ext cx="3047760" cy="1828800"/>
            <a:chOff x="1219320" y="5029200"/>
            <a:chExt cx="3047760" cy="1828800"/>
          </a:xfrm>
        </p:grpSpPr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>
              <a:off x="1219320" y="5130720"/>
              <a:ext cx="160020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9"/>
            <a:stretch/>
          </p:blipFill>
          <p:spPr>
            <a:xfrm>
              <a:off x="2514600" y="5029200"/>
              <a:ext cx="17524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5486400" y="5232240"/>
            <a:ext cx="2819520" cy="1625760"/>
            <a:chOff x="5486400" y="5232240"/>
            <a:chExt cx="2819520" cy="1625760"/>
          </a:xfrm>
        </p:grpSpPr>
        <p:pic>
          <p:nvPicPr>
            <p:cNvPr id="136" name="" descr=""/>
            <p:cNvPicPr/>
            <p:nvPr/>
          </p:nvPicPr>
          <p:blipFill>
            <a:blip r:embed="rId20"/>
            <a:stretch/>
          </p:blipFill>
          <p:spPr>
            <a:xfrm>
              <a:off x="6553080" y="5232240"/>
              <a:ext cx="175284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1"/>
            <a:stretch/>
          </p:blipFill>
          <p:spPr>
            <a:xfrm>
              <a:off x="5486400" y="5257800"/>
              <a:ext cx="15238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924360" y="333360"/>
            <a:ext cx="4572000" cy="8254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ich …do you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like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bo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680" y="304920"/>
            <a:ext cx="2590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Talk like this: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3000" y="1143000"/>
            <a:ext cx="2722680" cy="1905120"/>
            <a:chOff x="1143000" y="1143000"/>
            <a:chExt cx="2722680" cy="19051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143000" y="1143000"/>
              <a:ext cx="1173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1828800" y="1600200"/>
              <a:ext cx="14875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2743200" y="1143000"/>
              <a:ext cx="112248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4114800" y="1295280"/>
            <a:ext cx="2019240" cy="2400480"/>
            <a:chOff x="4114800" y="1295280"/>
            <a:chExt cx="2019240" cy="2400480"/>
          </a:xfrm>
        </p:grpSpPr>
        <p:grpSp>
          <p:nvGrpSpPr>
            <p:cNvPr id="145" name=""/>
            <p:cNvGrpSpPr/>
            <p:nvPr/>
          </p:nvGrpSpPr>
          <p:grpSpPr>
            <a:xfrm>
              <a:off x="4267080" y="2209680"/>
              <a:ext cx="1471680" cy="1486080"/>
              <a:chOff x="4267080" y="2209680"/>
              <a:chExt cx="1471680" cy="1486080"/>
            </a:xfrm>
          </p:grpSpPr>
          <p:pic>
            <p:nvPicPr>
              <p:cNvPr id="1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2209680"/>
                <a:ext cx="1395360" cy="14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7080" y="2514600"/>
                <a:ext cx="1282680" cy="11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4114800" y="12952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5181480" y="1447920"/>
              <a:ext cx="9525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477120" y="1371600"/>
            <a:ext cx="2666880" cy="1727280"/>
            <a:chOff x="6477120" y="1371600"/>
            <a:chExt cx="2666880" cy="1727280"/>
          </a:xfrm>
        </p:grpSpPr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7010280" y="1371600"/>
              <a:ext cx="113040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7696080" y="1905120"/>
              <a:ext cx="14479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1"/>
            <a:stretch/>
          </p:blipFill>
          <p:spPr>
            <a:xfrm>
              <a:off x="6477120" y="1828800"/>
              <a:ext cx="93960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990720" y="3124080"/>
            <a:ext cx="2818800" cy="2362320"/>
            <a:chOff x="990720" y="3124080"/>
            <a:chExt cx="2818800" cy="2362320"/>
          </a:xfrm>
        </p:grpSpPr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133360" y="3124080"/>
              <a:ext cx="11682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2057400" y="3505320"/>
              <a:ext cx="17521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990720" y="3530520"/>
              <a:ext cx="15238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5"/>
            <a:stretch/>
          </p:blipFill>
          <p:spPr>
            <a:xfrm>
              <a:off x="1066680" y="4267080"/>
              <a:ext cx="16254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3809880" y="3505320"/>
            <a:ext cx="3065760" cy="2336760"/>
            <a:chOff x="3809880" y="3505320"/>
            <a:chExt cx="3065760" cy="2336760"/>
          </a:xfrm>
        </p:grpSpPr>
        <p:pic>
          <p:nvPicPr>
            <p:cNvPr id="160" name="" descr=""/>
            <p:cNvPicPr/>
            <p:nvPr/>
          </p:nvPicPr>
          <p:blipFill>
            <a:blip r:embed="rId16"/>
            <a:stretch/>
          </p:blipFill>
          <p:spPr>
            <a:xfrm>
              <a:off x="3962520" y="3505320"/>
              <a:ext cx="142236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3809880" y="4572000"/>
              <a:ext cx="13208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5486400" y="4343400"/>
              <a:ext cx="138924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4952880" y="3810240"/>
              <a:ext cx="1387440" cy="14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6705720" y="3505320"/>
            <a:ext cx="2438280" cy="2857320"/>
            <a:chOff x="6705720" y="3505320"/>
            <a:chExt cx="2438280" cy="285732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6934320" y="3657600"/>
              <a:ext cx="14731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1"/>
            <a:stretch/>
          </p:blipFill>
          <p:spPr>
            <a:xfrm>
              <a:off x="8001000" y="3505320"/>
              <a:ext cx="82548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2"/>
            <a:stretch/>
          </p:blipFill>
          <p:spPr>
            <a:xfrm>
              <a:off x="7238880" y="4724280"/>
              <a:ext cx="135900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3"/>
            <a:stretch/>
          </p:blipFill>
          <p:spPr>
            <a:xfrm>
              <a:off x="8077320" y="4495680"/>
              <a:ext cx="1066680" cy="15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4"/>
            <a:stretch/>
          </p:blipFill>
          <p:spPr>
            <a:xfrm>
              <a:off x="6705720" y="4495680"/>
              <a:ext cx="876240" cy="12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1905120" y="5194440"/>
            <a:ext cx="2361960" cy="1663560"/>
            <a:chOff x="1905120" y="5194440"/>
            <a:chExt cx="2361960" cy="1663560"/>
          </a:xfrm>
        </p:grpSpPr>
        <p:pic>
          <p:nvPicPr>
            <p:cNvPr id="171" name="" descr=""/>
            <p:cNvPicPr/>
            <p:nvPr/>
          </p:nvPicPr>
          <p:blipFill>
            <a:blip r:embed="rId25"/>
            <a:stretch/>
          </p:blipFill>
          <p:spPr>
            <a:xfrm>
              <a:off x="2514600" y="5257800"/>
              <a:ext cx="1066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6"/>
            <a:stretch/>
          </p:blipFill>
          <p:spPr>
            <a:xfrm>
              <a:off x="1905120" y="5194440"/>
              <a:ext cx="85068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7"/>
            <a:stretch/>
          </p:blipFill>
          <p:spPr>
            <a:xfrm>
              <a:off x="3276720" y="5334120"/>
              <a:ext cx="99036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4191120" y="0"/>
            <a:ext cx="4572000" cy="132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…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all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4572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Let me tell you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676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o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中文含义都是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6765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o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i="1" lang="zh-CN" sz="3600" spc="-1" strike="noStrike">
                <a:solidFill>
                  <a:srgbClr val="339966"/>
                </a:solidFill>
                <a:latin typeface="Arial"/>
              </a:rPr>
              <a:t>两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都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352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l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i="1" lang="zh-CN" sz="3600" spc="-1" strike="noStrike">
                <a:solidFill>
                  <a:srgbClr val="339966"/>
                </a:solidFill>
                <a:latin typeface="Arial"/>
              </a:rPr>
              <a:t>两者以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或物“都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4197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ary and I are _________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, Tom and I are _________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41280" y="754200"/>
            <a:ext cx="24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380880"/>
            <a:ext cx="360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sk and answer</a:t>
            </a:r>
            <a:endParaRPr b="0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8600"/>
            <a:ext cx="5181480" cy="132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…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ll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38080" y="5105520"/>
            <a:ext cx="2189160" cy="1752120"/>
            <a:chOff x="838080" y="5105520"/>
            <a:chExt cx="2189160" cy="17521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38080" y="5410080"/>
              <a:ext cx="14875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904760" y="5105520"/>
              <a:ext cx="1122480" cy="14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3505320" y="1219320"/>
            <a:ext cx="2019240" cy="2399760"/>
            <a:chOff x="3505320" y="1219320"/>
            <a:chExt cx="2019240" cy="2399760"/>
          </a:xfrm>
        </p:grpSpPr>
        <p:grpSp>
          <p:nvGrpSpPr>
            <p:cNvPr id="190" name=""/>
            <p:cNvGrpSpPr/>
            <p:nvPr/>
          </p:nvGrpSpPr>
          <p:grpSpPr>
            <a:xfrm>
              <a:off x="3657600" y="2133360"/>
              <a:ext cx="1471680" cy="1485720"/>
              <a:chOff x="3657600" y="2133360"/>
              <a:chExt cx="1471680" cy="1485720"/>
            </a:xfrm>
          </p:grpSpPr>
          <p:pic>
            <p:nvPicPr>
              <p:cNvPr id="1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3920" y="2133360"/>
                <a:ext cx="1395360" cy="14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7600" y="2437920"/>
                <a:ext cx="1282680" cy="1104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3505320" y="1219320"/>
              <a:ext cx="132084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4572000" y="1371600"/>
              <a:ext cx="952560" cy="15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6553080" y="4876920"/>
            <a:ext cx="2361960" cy="1663560"/>
            <a:chOff x="6553080" y="4876920"/>
            <a:chExt cx="2361960" cy="1663560"/>
          </a:xfrm>
        </p:grpSpPr>
        <p:pic>
          <p:nvPicPr>
            <p:cNvPr id="196" name="" descr=""/>
            <p:cNvPicPr/>
            <p:nvPr/>
          </p:nvPicPr>
          <p:blipFill>
            <a:blip r:embed="rId8"/>
            <a:stretch/>
          </p:blipFill>
          <p:spPr>
            <a:xfrm>
              <a:off x="7162560" y="4940280"/>
              <a:ext cx="1066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6553080" y="4876920"/>
              <a:ext cx="85068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7924680" y="5016600"/>
              <a:ext cx="99036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1371600" y="1066680"/>
            <a:ext cx="2057400" cy="1422360"/>
            <a:chOff x="1371600" y="1066680"/>
            <a:chExt cx="2057400" cy="1422360"/>
          </a:xfrm>
        </p:grpSpPr>
        <p:pic>
          <p:nvPicPr>
            <p:cNvPr id="200" name="" descr=""/>
            <p:cNvPicPr/>
            <p:nvPr/>
          </p:nvPicPr>
          <p:blipFill>
            <a:blip r:embed="rId11"/>
            <a:stretch/>
          </p:blipFill>
          <p:spPr>
            <a:xfrm>
              <a:off x="2057400" y="1066680"/>
              <a:ext cx="13716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1371600" y="1218960"/>
              <a:ext cx="93996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6629400" y="1600200"/>
            <a:ext cx="1905120" cy="1676520"/>
            <a:chOff x="6629400" y="1600200"/>
            <a:chExt cx="1905120" cy="1676520"/>
          </a:xfrm>
        </p:grpSpPr>
        <p:pic>
          <p:nvPicPr>
            <p:cNvPr id="203" name="" descr=""/>
            <p:cNvPicPr/>
            <p:nvPr/>
          </p:nvPicPr>
          <p:blipFill>
            <a:blip r:embed="rId13"/>
            <a:stretch/>
          </p:blipFill>
          <p:spPr>
            <a:xfrm>
              <a:off x="6629400" y="1600200"/>
              <a:ext cx="16765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4"/>
            <a:stretch/>
          </p:blipFill>
          <p:spPr>
            <a:xfrm>
              <a:off x="7315200" y="20574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914400" y="2514600"/>
            <a:ext cx="2438280" cy="2857320"/>
            <a:chOff x="914400" y="2514600"/>
            <a:chExt cx="2438280" cy="2857320"/>
          </a:xfrm>
        </p:grpSpPr>
        <p:pic>
          <p:nvPicPr>
            <p:cNvPr id="206" name="" descr=""/>
            <p:cNvPicPr/>
            <p:nvPr/>
          </p:nvPicPr>
          <p:blipFill>
            <a:blip r:embed="rId15"/>
            <a:stretch/>
          </p:blipFill>
          <p:spPr>
            <a:xfrm>
              <a:off x="1143000" y="2666880"/>
              <a:ext cx="14731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6"/>
            <a:stretch/>
          </p:blipFill>
          <p:spPr>
            <a:xfrm>
              <a:off x="2209680" y="2514600"/>
              <a:ext cx="82548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7"/>
            <a:stretch/>
          </p:blipFill>
          <p:spPr>
            <a:xfrm>
              <a:off x="1447560" y="3733560"/>
              <a:ext cx="135900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8"/>
            <a:stretch/>
          </p:blipFill>
          <p:spPr>
            <a:xfrm>
              <a:off x="2286000" y="3504960"/>
              <a:ext cx="1066680" cy="15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9"/>
            <a:stretch/>
          </p:blipFill>
          <p:spPr>
            <a:xfrm>
              <a:off x="914400" y="3504960"/>
              <a:ext cx="876240" cy="12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505320" y="3581280"/>
            <a:ext cx="1778040" cy="1522440"/>
            <a:chOff x="3505320" y="3581280"/>
            <a:chExt cx="1778040" cy="1522440"/>
          </a:xfrm>
        </p:grpSpPr>
        <p:pic>
          <p:nvPicPr>
            <p:cNvPr id="212" name="" descr=""/>
            <p:cNvPicPr/>
            <p:nvPr/>
          </p:nvPicPr>
          <p:blipFill>
            <a:blip r:embed="rId20"/>
            <a:stretch/>
          </p:blipFill>
          <p:spPr>
            <a:xfrm>
              <a:off x="3657600" y="3581280"/>
              <a:ext cx="15238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1"/>
            <a:stretch/>
          </p:blipFill>
          <p:spPr>
            <a:xfrm>
              <a:off x="3505320" y="3809880"/>
              <a:ext cx="177804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2971800" y="5334120"/>
            <a:ext cx="2514600" cy="1523880"/>
            <a:chOff x="2971800" y="5334120"/>
            <a:chExt cx="2514600" cy="1523880"/>
          </a:xfrm>
        </p:grpSpPr>
        <p:pic>
          <p:nvPicPr>
            <p:cNvPr id="215" name="" descr=""/>
            <p:cNvPicPr/>
            <p:nvPr/>
          </p:nvPicPr>
          <p:blipFill>
            <a:blip r:embed="rId22"/>
            <a:stretch/>
          </p:blipFill>
          <p:spPr>
            <a:xfrm>
              <a:off x="2971800" y="5486400"/>
              <a:ext cx="1524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3"/>
            <a:stretch/>
          </p:blipFill>
          <p:spPr>
            <a:xfrm>
              <a:off x="3886200" y="5334120"/>
              <a:ext cx="129564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4"/>
            <a:stretch/>
          </p:blipFill>
          <p:spPr>
            <a:xfrm>
              <a:off x="4648320" y="5700600"/>
              <a:ext cx="838080" cy="11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5410080" y="3124080"/>
            <a:ext cx="3733920" cy="1944720"/>
            <a:chOff x="5410080" y="3124080"/>
            <a:chExt cx="3733920" cy="1944720"/>
          </a:xfrm>
        </p:grpSpPr>
        <p:pic>
          <p:nvPicPr>
            <p:cNvPr id="219" name="" descr=""/>
            <p:cNvPicPr/>
            <p:nvPr/>
          </p:nvPicPr>
          <p:blipFill>
            <a:blip r:embed="rId25"/>
            <a:stretch/>
          </p:blipFill>
          <p:spPr>
            <a:xfrm>
              <a:off x="5410080" y="3733560"/>
              <a:ext cx="205452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6"/>
            <a:stretch/>
          </p:blipFill>
          <p:spPr>
            <a:xfrm>
              <a:off x="6172200" y="3124080"/>
              <a:ext cx="19810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7"/>
            <a:stretch/>
          </p:blipFill>
          <p:spPr>
            <a:xfrm>
              <a:off x="7162920" y="3429000"/>
              <a:ext cx="1981080" cy="16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480" y="3049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Make a dialogue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33520"/>
            <a:ext cx="2971800" cy="642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In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彩云"/>
              </a:rPr>
              <a:t>to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914400"/>
            <a:ext cx="685800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ff"/>
                </a:solidFill>
                <a:latin typeface="Times New Roman"/>
              </a:rPr>
              <a:t>Hi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… do you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both/ all th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05520" y="1523880"/>
            <a:ext cx="1294920" cy="1193760"/>
            <a:chOff x="5105520" y="1523880"/>
            <a:chExt cx="1294920" cy="119376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537160" y="1523880"/>
              <a:ext cx="863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5105520" y="1651680"/>
              <a:ext cx="591480" cy="106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219320" y="3733920"/>
            <a:ext cx="1143000" cy="1447200"/>
            <a:chOff x="1219320" y="3733920"/>
            <a:chExt cx="1143000" cy="144720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1219320" y="3985560"/>
              <a:ext cx="77652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1776240" y="3733920"/>
              <a:ext cx="586080" cy="119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352680" y="5486400"/>
            <a:ext cx="1219320" cy="990720"/>
            <a:chOff x="3352680" y="5486400"/>
            <a:chExt cx="1219320" cy="990720"/>
          </a:xfrm>
        </p:grpSpPr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3457080" y="5486400"/>
              <a:ext cx="10450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3352680" y="5635080"/>
              <a:ext cx="1219320" cy="84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2819520" y="3733920"/>
            <a:ext cx="1828800" cy="1142640"/>
            <a:chOff x="2819520" y="3733920"/>
            <a:chExt cx="1828800" cy="1142640"/>
          </a:xfrm>
        </p:grpSpPr>
        <p:pic>
          <p:nvPicPr>
            <p:cNvPr id="235" name="" descr=""/>
            <p:cNvPicPr/>
            <p:nvPr/>
          </p:nvPicPr>
          <p:blipFill>
            <a:blip r:embed="rId8"/>
            <a:stretch/>
          </p:blipFill>
          <p:spPr>
            <a:xfrm>
              <a:off x="2819520" y="3848040"/>
              <a:ext cx="11084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9"/>
            <a:stretch/>
          </p:blipFill>
          <p:spPr>
            <a:xfrm>
              <a:off x="3484440" y="3733920"/>
              <a:ext cx="942120" cy="90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0"/>
            <a:stretch/>
          </p:blipFill>
          <p:spPr>
            <a:xfrm>
              <a:off x="4038840" y="4008600"/>
              <a:ext cx="609480" cy="86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7315200" y="4114800"/>
            <a:ext cx="1143000" cy="1066680"/>
            <a:chOff x="7315200" y="4114800"/>
            <a:chExt cx="1143000" cy="1066680"/>
          </a:xfrm>
        </p:grpSpPr>
        <p:pic>
          <p:nvPicPr>
            <p:cNvPr id="239" name="" descr=""/>
            <p:cNvPicPr/>
            <p:nvPr/>
          </p:nvPicPr>
          <p:blipFill>
            <a:blip r:embed="rId11"/>
            <a:stretch/>
          </p:blipFill>
          <p:spPr>
            <a:xfrm>
              <a:off x="7315200" y="4114800"/>
              <a:ext cx="1005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2"/>
            <a:stretch/>
          </p:blipFill>
          <p:spPr>
            <a:xfrm>
              <a:off x="7726680" y="4405680"/>
              <a:ext cx="73152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6934320" y="1600200"/>
            <a:ext cx="1713960" cy="1752120"/>
            <a:chOff x="6934320" y="1600200"/>
            <a:chExt cx="1713960" cy="1752120"/>
          </a:xfrm>
        </p:grpSpPr>
        <p:grpSp>
          <p:nvGrpSpPr>
            <p:cNvPr id="242" name=""/>
            <p:cNvGrpSpPr/>
            <p:nvPr/>
          </p:nvGrpSpPr>
          <p:grpSpPr>
            <a:xfrm>
              <a:off x="7063560" y="2267640"/>
              <a:ext cx="1248840" cy="1084680"/>
              <a:chOff x="7063560" y="2267640"/>
              <a:chExt cx="1248840" cy="108468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28000" y="2267640"/>
                <a:ext cx="1184400" cy="108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63560" y="2490120"/>
                <a:ext cx="1088640" cy="806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5" name="" descr=""/>
            <p:cNvPicPr/>
            <p:nvPr/>
          </p:nvPicPr>
          <p:blipFill>
            <a:blip r:embed="rId15"/>
            <a:stretch/>
          </p:blipFill>
          <p:spPr>
            <a:xfrm>
              <a:off x="6934320" y="1600200"/>
              <a:ext cx="112140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6"/>
            <a:stretch/>
          </p:blipFill>
          <p:spPr>
            <a:xfrm>
              <a:off x="7839720" y="1711440"/>
              <a:ext cx="808560" cy="11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990720" y="5562720"/>
            <a:ext cx="1447200" cy="906480"/>
            <a:chOff x="990720" y="5562720"/>
            <a:chExt cx="1447200" cy="906480"/>
          </a:xfrm>
        </p:grpSpPr>
        <p:pic>
          <p:nvPicPr>
            <p:cNvPr id="248" name="" descr=""/>
            <p:cNvPicPr/>
            <p:nvPr/>
          </p:nvPicPr>
          <p:blipFill>
            <a:blip r:embed="rId17"/>
            <a:stretch/>
          </p:blipFill>
          <p:spPr>
            <a:xfrm>
              <a:off x="990720" y="5638680"/>
              <a:ext cx="7617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8"/>
            <a:stretch/>
          </p:blipFill>
          <p:spPr>
            <a:xfrm>
              <a:off x="1676160" y="5562720"/>
              <a:ext cx="7617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9"/>
            <a:stretch/>
          </p:blipFill>
          <p:spPr>
            <a:xfrm>
              <a:off x="1600200" y="6019920"/>
              <a:ext cx="761400" cy="4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5257800" y="3200400"/>
            <a:ext cx="1599840" cy="1066680"/>
            <a:chOff x="5257800" y="3200400"/>
            <a:chExt cx="1599840" cy="1066680"/>
          </a:xfrm>
        </p:grpSpPr>
        <p:pic>
          <p:nvPicPr>
            <p:cNvPr id="252" name="" descr=""/>
            <p:cNvPicPr/>
            <p:nvPr/>
          </p:nvPicPr>
          <p:blipFill>
            <a:blip r:embed="rId20"/>
            <a:stretch/>
          </p:blipFill>
          <p:spPr>
            <a:xfrm>
              <a:off x="5257800" y="3200400"/>
              <a:ext cx="141480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1"/>
            <a:stretch/>
          </p:blipFill>
          <p:spPr>
            <a:xfrm>
              <a:off x="5715000" y="3634200"/>
              <a:ext cx="1142640" cy="6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5410080" y="5029200"/>
            <a:ext cx="1752480" cy="1447920"/>
            <a:chOff x="5410080" y="5029200"/>
            <a:chExt cx="1752480" cy="1447920"/>
          </a:xfrm>
        </p:grpSpPr>
        <p:pic>
          <p:nvPicPr>
            <p:cNvPr id="255" name="" descr=""/>
            <p:cNvPicPr/>
            <p:nvPr/>
          </p:nvPicPr>
          <p:blipFill>
            <a:blip r:embed="rId22"/>
            <a:stretch/>
          </p:blipFill>
          <p:spPr>
            <a:xfrm>
              <a:off x="6248160" y="533412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3"/>
            <a:stretch/>
          </p:blipFill>
          <p:spPr>
            <a:xfrm>
              <a:off x="5410080" y="5029200"/>
              <a:ext cx="1066680" cy="8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4"/>
            <a:stretch/>
          </p:blipFill>
          <p:spPr>
            <a:xfrm>
              <a:off x="5562360" y="5639040"/>
              <a:ext cx="95256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3:22:41Z</dcterms:created>
  <dc:creator/>
  <dc:description/>
  <dc:language>en-US</dc:language>
  <cp:lastModifiedBy>ydz</cp:lastModifiedBy>
  <dcterms:modified xsi:type="dcterms:W3CDTF">2012-05-25T02:27:29Z</dcterms:modified>
  <cp:revision>33</cp:revision>
  <dc:subject/>
  <dc:title>PowerPoint 演示文稿</dc:title>
</cp:coreProperties>
</file>